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79360" y="687240"/>
            <a:ext cx="4577040" cy="343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23400" y="4349520"/>
            <a:ext cx="5086440" cy="4195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0" y="877572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929040" y="8775720"/>
            <a:ext cx="3005280" cy="457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487485D-061C-4B4D-AF87-04421D78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29040" y="877572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9270D8-5095-4DA3-804E-BCF29CAA2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6480" y="689040"/>
            <a:ext cx="4582800" cy="3436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8320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915-D763-44E2-9E6C-1DA8A1E0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58A-C8B2-46CB-A36E-483C61A4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BA8-D0D8-4903-B236-61074FF8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D09-054A-4B34-83E6-4F780FB8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1A6-6D78-4C92-B289-CD3635D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A8F-BC69-4587-BE3B-F6193463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8A0-E146-4B7E-AAF3-63FB24C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84D-4751-461D-A874-8E2541A4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393-DA46-4495-A375-0993ADB7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B0A-3109-4FB7-8C38-51C8ED1B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2C3-82E6-4AF9-A23C-59989D87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C9F7-9D24-46E7-84B1-C87091A3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-216000" y="19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143000"/>
            <a:ext cx="9144000" cy="936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362640"/>
            <a:ext cx="9144000" cy="79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72960" y="1652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42920" y="19368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7232760" y="263520"/>
            <a:ext cx="1715760" cy="390240"/>
            <a:chOff x="7232760" y="263520"/>
            <a:chExt cx="1715760" cy="390240"/>
          </a:xfrm>
        </p:grpSpPr>
        <p:sp>
          <p:nvSpPr>
            <p:cNvPr id="7" name="Freeform 9"/>
            <p:cNvSpPr/>
            <p:nvPr/>
          </p:nvSpPr>
          <p:spPr>
            <a:xfrm>
              <a:off x="770112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772840" y="371160"/>
              <a:ext cx="8064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836200" y="371160"/>
              <a:ext cx="112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207640" y="371160"/>
              <a:ext cx="2350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03124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418600" y="360360"/>
              <a:ext cx="17928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884000" y="371160"/>
              <a:ext cx="16632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601120" y="371160"/>
              <a:ext cx="164880" cy="21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232760" y="371160"/>
              <a:ext cx="495000" cy="2826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512120" y="263520"/>
              <a:ext cx="69480" cy="90000"/>
            </a:xfrm>
            <a:prstGeom prst="pie">
              <a:avLst/>
            </a:prstGeom>
            <a:solidFill>
              <a:srgbClr val="fd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13200" y="627120"/>
              <a:ext cx="2376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Text Box 20"/>
          <p:cNvSpPr/>
          <p:nvPr/>
        </p:nvSpPr>
        <p:spPr>
          <a:xfrm>
            <a:off x="7145280" y="689040"/>
            <a:ext cx="189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"/>
              </a:rPr>
              <a:t>Aramark Uniform and Career Appar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2"/>
          <p:cNvSpPr/>
          <p:nvPr/>
        </p:nvSpPr>
        <p:spPr>
          <a:xfrm>
            <a:off x="8630280" y="61722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8C6F-5E30-4A5A-BD8A-31A14FE97384}" type="slidenum">
              <a:rPr b="0" lang="en-US" sz="9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5"/>
          <p:cNvGrpSpPr/>
          <p:nvPr/>
        </p:nvGrpSpPr>
        <p:grpSpPr>
          <a:xfrm>
            <a:off x="-202680" y="0"/>
            <a:ext cx="9346680" cy="1523520"/>
            <a:chOff x="-202680" y="0"/>
            <a:chExt cx="9346680" cy="1523520"/>
          </a:xfrm>
        </p:grpSpPr>
        <p:pic>
          <p:nvPicPr>
            <p:cNvPr id="57" name="Picture 6" descr="cool2"/>
            <p:cNvPicPr/>
            <p:nvPr/>
          </p:nvPicPr>
          <p:blipFill>
            <a:blip r:embed="rId2"/>
            <a:stretch/>
          </p:blipFill>
          <p:spPr>
            <a:xfrm rot="5400000">
              <a:off x="3708720" y="-3911400"/>
              <a:ext cx="1523520" cy="93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Line 7"/>
            <p:cNvSpPr/>
            <p:nvPr/>
          </p:nvSpPr>
          <p:spPr>
            <a:xfrm flipH="1">
              <a:off x="-202680" y="1523520"/>
              <a:ext cx="934668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E6A1-F3D6-415F-9952-F14844CE72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873920" y="4446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024040" y="40644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96080" y="165240"/>
            <a:ext cx="124488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2"/>
          <p:cNvSpPr/>
          <p:nvPr/>
        </p:nvSpPr>
        <p:spPr>
          <a:xfrm>
            <a:off x="1392120" y="0"/>
            <a:ext cx="775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"/>
          <p:cNvSpPr/>
          <p:nvPr/>
        </p:nvSpPr>
        <p:spPr>
          <a:xfrm>
            <a:off x="2514600" y="4000680"/>
            <a:ext cx="575316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36560" y="469800"/>
            <a:ext cx="7329600" cy="80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a Md BT"/>
              </a:rPr>
              <a:t>One to One Laptop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 Junior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Rye, 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School Board Brief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Calibri"/>
              </a:rPr>
              <a:t>June 11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Sheila Adams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adams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Pollet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cpollet@sau50.or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hris Lingamfelter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clingamfelter@manh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Tim Moynahan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tmoynahan@sau50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ke Schwartz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Futura Md BT"/>
              </a:rPr>
              <a:t>michaelschwartz@usa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zanne Vogt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	</a:t>
            </a:r>
            <a:r>
              <a:rPr b="1" lang="fr-FR" sz="2000" spc="-1" strike="noStrike">
                <a:solidFill>
                  <a:srgbClr val="808080"/>
                </a:solidFill>
                <a:latin typeface="Futura Md BT"/>
              </a:rPr>
              <a:t>sumarc@comcas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0" y="0"/>
            <a:ext cx="1371600" cy="6858000"/>
            <a:chOff x="0" y="0"/>
            <a:chExt cx="1371600" cy="6858000"/>
          </a:xfrm>
        </p:grpSpPr>
        <p:pic>
          <p:nvPicPr>
            <p:cNvPr id="114" name="Picture 6" descr="cool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716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Line 7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4"/>
          <p:cNvSpPr/>
          <p:nvPr/>
        </p:nvSpPr>
        <p:spPr>
          <a:xfrm>
            <a:off x="215640" y="584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ngravers MT"/>
              </a:rPr>
              <a:t>1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349920" y="5461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38160" y="304920"/>
            <a:ext cx="1244520" cy="124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One to One 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43080" y="1600200"/>
            <a:ext cx="857232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Teachers as facilit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s independent lear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ore time on research and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ore collaborative learn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Better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ccess to techn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Enhanced learning, higher order of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Extension of school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8155080" y="35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History of Laptop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ubtitle 2"/>
          <p:cNvSpPr/>
          <p:nvPr/>
        </p:nvSpPr>
        <p:spPr>
          <a:xfrm>
            <a:off x="309600" y="2006640"/>
            <a:ext cx="857232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spired by Maine Laptop 7</a:t>
            </a:r>
            <a:r>
              <a:rPr b="0" lang="en-US" sz="28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Grad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nd Parents feel Technology Weak at RJ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arted December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olicited parent and teacher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Augmented with staff and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Conducted Research: web and in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aptop Initiative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ubtitle 2"/>
          <p:cNvSpPr/>
          <p:nvPr/>
        </p:nvSpPr>
        <p:spPr>
          <a:xfrm>
            <a:off x="368280" y="1778040"/>
            <a:ext cx="857268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Formed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Web Base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Phone Intervi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Matt Woodrow, Armand R. Dupont School in Allenstown, NH This is one of the Governor Benson Laptop Schools.  This is a very strong program and our notes ar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Linda Volt, Paul Elementary School in Sanbornville, NH This is one of the Governor Benson Laptop Schools.  This is a struggling program and we learned a lot from their misste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2157480" y="7254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Hardware is only one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uccessful programs focus on teacher adoption and curriculum 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Students are more engaged in this type of learning… more excited about the curricu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Problems: dealing with the technical aspects of support, Infrastructure problems,network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nitially, there are usually a number of unplanned costs, but that tapered off as they progr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867680" y="398520"/>
            <a:ext cx="536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rjhone.wikispaces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96880" y="1562040"/>
            <a:ext cx="8699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160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0680" y="1871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what a RJH One-to-One would look lik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velop budget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Determine professional development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Establish roll-out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3:54:32Z</dcterms:created>
  <dc:creator>Dan Avila</dc:creator>
  <dc:description/>
  <dc:language>en-US</dc:language>
  <cp:lastModifiedBy>cpollet</cp:lastModifiedBy>
  <cp:lastPrinted>2008-05-29T13:58:27Z</cp:lastPrinted>
  <dcterms:modified xsi:type="dcterms:W3CDTF">2008-06-11T21:36:11Z</dcterms:modified>
  <cp:revision>1138</cp:revision>
  <dc:subject>WCDC Final Briefing Packet</dc:subject>
  <dc:title>No Slide Title</dc:title>
</cp:coreProperties>
</file>